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432-9C8E-4FDA-85B5-3385327A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882-16D3-4968-806E-51E4BFB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A03-BC64-4B8C-B3F1-54C93C77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B02-A6C3-4064-BA2D-01641D91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A56-ACFC-407F-A535-33827989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E07-0397-4FF2-AF94-D53E4CE1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A0B-4C3E-49E3-B93E-D503E19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EAB-2C3B-498E-B2A5-2158A393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A32-3018-42C1-AFBA-FA9407E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700-DC9F-4188-A63D-4A9CF93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E58-B9AD-4D42-967C-7A38BF5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E88-5362-4179-B432-8B5EBBA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E877-BB35-4068-82BC-F5B5FBF9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Coding Practice  in Eclipse/StatET/Sweave/Subvers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ine Mc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!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errors and make code easy to understand and reuse for yourself and others, aim to make your analysis code and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er/subfolder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nam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reg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nctions when possible, saved in separate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pecific R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l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output pasting (Ctrl-R, Ctrl-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, FIXME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control (compare/com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/att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our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icient data manipulation (plyr, re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 to read plot statements (ggplo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5:42Z</dcterms:created>
  <dc:creator>10066925</dc:creator>
  <dc:description/>
  <dc:language>en-US</dc:language>
  <cp:lastModifiedBy>10066925</cp:lastModifiedBy>
  <dcterms:modified xsi:type="dcterms:W3CDTF">2010-07-06T20:25:42Z</dcterms:modified>
  <cp:revision>5</cp:revision>
  <dc:subject/>
  <dc:title>An example of how Eclipse/StatET/Sweave  encourages good programming practice</dc:title>
</cp:coreProperties>
</file>