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7549-BE2A-42FD-84DA-409F7811A5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F4A3-6381-40A6-8E05-5A6417805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2078-E0FB-4425-A3F4-3AD390034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4053-D372-4AA7-AB83-1CC3B9D21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7AD-0432-44F3-804E-FA677C4C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08F-FA29-406F-BF20-4A62F7D0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A41-2F98-4404-9AE7-2D256390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8DC-A5D9-460D-AA76-7EEFB92D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AAF-29B5-4E7D-8AB2-FB1C1ED5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3ED-BBB9-4A08-8F74-ECBE5EB0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2AB-F8CA-4A77-816C-D81C583A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65C-2AC3-40EA-B8D2-60D3006E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446-7533-4A3B-A0A7-AFBDDB8B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372-5130-481F-9FC7-CEF3998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3D7-5D7C-4BC7-8C3B-B3D722C0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9F8-AC11-46AC-B420-80D057D2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5C98-9EF7-4431-AAD5-E81D5CA7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r.research.at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urdoch-sutherland.com/Rtool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clipse.org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wnload.walware.de/eclipse-3.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T – Setup and 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l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l.Strain@fda.hh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! July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Java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JRE under Run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suggestions from http://www.walware.de/goto/sta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RE tab, add to vm arguments: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-Drjava.path=&l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th to rJav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w Leop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ains about 32-bit R with 64-bit J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-&gt; About Eclipse -&gt; Installation Details -&gt;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R from 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CMD javare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x and Swe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Analyses and Reproducible Research (Gentleman and Lang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epress.com/bioconductor/paper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TeX or MiK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style files from R-2.11.1/share/texmf to your TeX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: $HOME/texmf/tex/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: ~/Library/texmf/tex/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esh LaTeX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av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ve Run Configurations (Eclipse 3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ave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ave Docum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 CMD Swe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ormat: 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lipse 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inside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.Rnw file must be in working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Clipse Highl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LaTeX from the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shooting SV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s, SVN corrupted R files with “&lt;&lt;&lt;&lt;&lt;&lt;&lt;&lt;&lt; .min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version attempts to merge files, resulting in *.mine, *.r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Conflicts, Mark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files, larg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0+ files in a folder is too many, 100 is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Cleanup (svn clean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ffected directories, delete *.svn f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with repository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/Replace workspace files with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subversion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version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version servers file on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Documents and Settings\Errol.Strain\Application Data\Sub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loba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exceptions = *.exception.com, www.internal-sit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host = defaultproxy.whatev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port = 7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username = defaultuse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ttp-proxy-password = default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 file is overwritten when updating eclipse/sub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backup of the working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o look for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ubclipse.tigris.org/wiki/PluginF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vnkit.com/kb/config-setting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version Server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p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X: /etc/apach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: /etc/httpd or /etc/apach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 Subversion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onzea.com/articles/subversion-tra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rnovell.wordpress.com/2007/11/17/how-to-manage-your-own-subversion-repository-in-leopar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untu: https://help.ubuntu.com/community/Sub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N repository 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“apache dav sv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ine McVey, Daniel Samarov, Julie Leonard, Dylan Wilson, Perry Ha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han Wahlb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– Center for Food Safety and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57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screenshot1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creenshot1"/>
          <p:cNvPicPr/>
          <p:nvPr/>
        </p:nvPicPr>
        <p:blipFill>
          <a:blip r:embed="rId1"/>
          <a:stretch/>
        </p:blipFill>
        <p:spPr>
          <a:xfrm>
            <a:off x="609480" y="990720"/>
            <a:ext cx="77821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to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che, subversion, subclipse, LaTeX, R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s and Troublesho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(and rJav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 Java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ava.su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Linux &amp;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RE 1.5 or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/R/StatEt was crashing frequently with IBM java on RHEL4 x86_64 (but this may be fixed in recent ver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 can use local JR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(32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work 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(Snow Leop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.research.at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d to compile, use Mac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(RHEL and Ubun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 binaries (RHEL 5 &amp; Lucid Lyn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/Dynamic Libraries, compile with “--enable-R-shli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and 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up tested using R 2.11.1 on XP and Snow Leop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Java (version 8.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j (version 0.5.0-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ed for StatET RJ lau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vailable on C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wnload from http://www.walware.de/goto/sta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terminal/console to inst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 R CMD INSTALL --no-test-load rj_0.5.0-4.tar.g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2.10.1 does not have --no-test-load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T uses defined R environments, not the system R path in Windows and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 installations (Current version, previous working version, development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/Console output and default StatET output be 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s -&gt; Control Panel -&gt; System -&gt; Advanced -&gt; Environment Variables, then edit Path variable to include C:\R\R-2.11.1\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reate symbolic link from C:\R\R to C:\R\R-2.11.1 and edit path to include C:\R\R\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X and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Users/username/.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home/username/.bash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s (gcc, mingw, Fortran), Perl, bitmap libraries, gzip, ta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tool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urdoch-sutherland.com/Rto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ode Develope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.research.att.com/to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(Ubun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pt-get install r-base-d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lipse 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Eclipse Classic (3.6) for your OS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clips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 IDE for Java Developers is also supposed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aptic/Yum repository versions are usually a little beh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clipse folder per user is easiest (config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eclipse\eclipse36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home\user\eclipse\eclipse36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Folder (OS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settings (eclipse/configuration/config.i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/Add line to config.ini “-Xmx4096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eclipse\workspace” or “\home\user\workspace”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it easier to switch machines and collaborate on projects (absolute path n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orkspaces for different large, complex pro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g-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ing Eclipse 3.5, add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wnload.walware.de/eclipse-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ing 3.6, download archive from http://www.walware.de/goto/sta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StatET and related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ipse (uses sub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ubclipse.tigris.org/update_1.6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heck Mylyn and Revision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it (uses g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-&gt; Install New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wnload.eclipse.org/releases/helios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lipse StatET/R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ing Plug-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StatET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y Conn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Console, Classic Console, Rgui, X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R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ct Default Properties/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as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Console Launch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unch the cons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2:07:34Z</dcterms:created>
  <dc:creator>Errol.Strain</dc:creator>
  <dc:description/>
  <dc:language>en-US</dc:language>
  <cp:lastModifiedBy>t</cp:lastModifiedBy>
  <dcterms:modified xsi:type="dcterms:W3CDTF">2010-08-11T12:28:34Z</dcterms:modified>
  <cp:revision>162</cp:revision>
  <dc:subject/>
  <dc:title>StatET – Setup and Installation</dc:title>
</cp:coreProperties>
</file>