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17B-4C7B-4B38-96E2-97E86C7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8BD-E83E-4EE5-A87D-3227B14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C44-CBA4-4896-B33B-D9631A2A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E31-8732-4A9A-BFA5-14F0A927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997-8AF4-4BDE-A4F7-4071A79B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30F-8378-424E-BEEC-FD56D454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0E4-FEE2-46D0-B5E1-E1F15564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2EE-2DE5-4659-A5CE-CFB7F31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527-0CE7-4008-95AC-7349B5E5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412-1612-4AFE-A99F-8C3C3F9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555-762D-4B42-98F3-4321130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006-564C-4622-A2CB-C8D9F00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D79-5E3C-41BD-A788-A027D7BD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Coding Practice  in Eclipse/StatET/Sweave/Subvers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ine Mc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errors and make code easy to understand and reuse for yourself and others, aim to make your analysis code and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/subfolder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nctions when possible, saved in separate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pecific 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l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output pasting (Ctrl-R, Ctrl-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, FIXM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control (compare/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/att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icient data manipulation (plyr, re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 to read plot statements (ggplo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5:42Z</dcterms:created>
  <dc:creator>10066925</dc:creator>
  <dc:description/>
  <dc:language>en-US</dc:language>
  <cp:lastModifiedBy>10066925</cp:lastModifiedBy>
  <dcterms:modified xsi:type="dcterms:W3CDTF">2010-07-06T20:25:42Z</dcterms:modified>
  <cp:revision>5</cp:revision>
  <dc:subject/>
  <dc:title>An example of how Eclipse/StatET/Sweave  encourages good programming practice</dc:title>
</cp:coreProperties>
</file>